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63B7F-F695-43E1-8D5E-947311E7B52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7436-8C9D-4569-9DD8-6391626934F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CBA8-FAA7-4AA9-9CD0-F28701FC3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05FA-28A4-4558-BE1F-D50278892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70E2-CEB7-4611-8632-E5B64B36C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FBE5-41EF-463A-998A-F6C24BEE6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C525-7169-4B05-825A-6BC3D497D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3F03-8BEF-4B45-B33C-0EE6B6FD7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1E32-B25B-41FE-8FB2-301F95723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BE5D-78FD-4E44-B82A-0646A05D5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BE25-ECEC-475D-895A-81D635840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460C-6498-4274-9380-3EAB0FD4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6F35-9073-49DD-94F3-459640F6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5493-DE0A-4BF9-A676-987AF99C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80836-6068-463F-93E3-46492D2BEC3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8:Practice 1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241200" y="4680"/>
            <a:ext cx="862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δυναμαι, καθημαι, κειμα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ἰδ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-142920" y="1708200"/>
            <a:ext cx="5000760" cy="41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s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δυναντα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καθημενοι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δυνασθα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κειτο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6"/>
          <p:cNvSpPr/>
          <p:nvPr/>
        </p:nvSpPr>
        <p:spPr>
          <a:xfrm>
            <a:off x="2786040" y="224964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Pl. Present Middle Indic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7"/>
          <p:cNvSpPr/>
          <p:nvPr/>
        </p:nvSpPr>
        <p:spPr>
          <a:xfrm>
            <a:off x="2786040" y="2851200"/>
            <a:ext cx="607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sculine/Neuter Dative Pl., Present Middle Partic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8"/>
          <p:cNvSpPr/>
          <p:nvPr/>
        </p:nvSpPr>
        <p:spPr>
          <a:xfrm>
            <a:off x="2786040" y="408636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esent Middle Infini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9"/>
          <p:cNvSpPr/>
          <p:nvPr/>
        </p:nvSpPr>
        <p:spPr>
          <a:xfrm>
            <a:off x="2786040" y="4692600"/>
            <a:ext cx="64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ingular Imperfect Middle Indic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8:Practice 2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241200" y="4680"/>
            <a:ext cx="862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δυναμαι, καθημαι, κειμα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ἰδ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4"/>
          <p:cNvSpPr/>
          <p:nvPr/>
        </p:nvSpPr>
        <p:spPr>
          <a:xfrm>
            <a:off x="-142920" y="1571760"/>
            <a:ext cx="5000760" cy="41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s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οἰδατ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ᾐδε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ἰδε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ἰδ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εἰδω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2786040" y="2112840"/>
            <a:ext cx="6072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Pl. Present Active Indicative (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ἰδα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2786040" y="2714760"/>
            <a:ext cx="6072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ing. Imperfect Active Indicative (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ἰδα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8"/>
          <p:cNvSpPr/>
          <p:nvPr/>
        </p:nvSpPr>
        <p:spPr>
          <a:xfrm>
            <a:off x="2803680" y="3322800"/>
            <a:ext cx="5072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orist Active Infinitive (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ραω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9"/>
          <p:cNvSpPr/>
          <p:nvPr/>
        </p:nvSpPr>
        <p:spPr>
          <a:xfrm>
            <a:off x="2800440" y="3959280"/>
            <a:ext cx="4286160" cy="8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sculine Nominative Sing., Aorist Active Participle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ραω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0"/>
          <p:cNvSpPr/>
          <p:nvPr/>
        </p:nvSpPr>
        <p:spPr>
          <a:xfrm>
            <a:off x="2803680" y="5200560"/>
            <a:ext cx="5572080" cy="8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sculine Nominative Sing., Present Active Participle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ἰδα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8:Practice 3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18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USE OF INFINI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214200" y="1357200"/>
            <a:ext cx="4572000" cy="47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θελω αὐτον γαμειν μ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δει διδασκαλον διδασκει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ροσηλθεν ὡστε αὐτους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ὑπαγαγει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δυνασθε ἐσθιειν ἀρτον ἐν τῳ ἱερῳ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φιλω την σοφιαν ὡστε ἀκουειν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ου διδασκαλου μο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4786200" y="2112840"/>
            <a:ext cx="30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want him to marry 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4786200" y="2619360"/>
            <a:ext cx="30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 teacher must tea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4786200" y="3119400"/>
            <a:ext cx="41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e approached so they depar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4800600" y="4125960"/>
            <a:ext cx="371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re you able to eat bread in the temp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4803840" y="5157720"/>
            <a:ext cx="38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love wisdom so I listen to my teac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8:Practice 4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214200" y="1285920"/>
            <a:ext cx="4214880" cy="55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δυναμεθα λεγειν αὐτ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θελω εἰδεναι τον θε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μετα το προσευχεσθαι ἐξηλθον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κ της συναγωγη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ἡ χηρα ἠν πτωχη ὡστε μη ἐχειν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ολλ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ἰδον ὁτι δει αὐτην ἀποθανει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ἰδατε τας ἐπαγγελιας τα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αἰωνιου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4313160" y="1976400"/>
            <a:ext cx="46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e were able to speak to h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4313160" y="2432160"/>
            <a:ext cx="46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want to know G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4313160" y="2860560"/>
            <a:ext cx="46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fter praying I/they left the synagog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4313160" y="3772080"/>
            <a:ext cx="46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widow was poor so she did not have mu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8"/>
          <p:cNvSpPr/>
          <p:nvPr/>
        </p:nvSpPr>
        <p:spPr>
          <a:xfrm>
            <a:off x="4327560" y="4673520"/>
            <a:ext cx="464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/they saw that it was necessary for her to 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9"/>
          <p:cNvSpPr/>
          <p:nvPr/>
        </p:nvSpPr>
        <p:spPr>
          <a:xfrm>
            <a:off x="4330800" y="5554800"/>
            <a:ext cx="46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 you know the eternal promis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6"/>
          <p:cNvSpPr/>
          <p:nvPr/>
        </p:nvSpPr>
        <p:spPr>
          <a:xfrm>
            <a:off x="6867360" y="629280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8:Practice 5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214200" y="1184400"/>
            <a:ext cx="4857840" cy="60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ἠλθες προς το προσκυνησα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ῳ θεῳ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ἱ μαθηται ἐφυγον ὡστε τους                                            στρατιωτας μη εὑρειν μηδεν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d you know hi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efore sitting down they gave than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y were so amazed that the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shipped h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must be a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4572000" y="1874880"/>
            <a:ext cx="42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d you come to worship (with the aim of worshipping) Go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4572000" y="2765520"/>
            <a:ext cx="45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disciples fled so the soldiers found no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4586400" y="406548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ᾐδεις αὐτον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>
            <a:off x="4586400" y="452772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ρο του καθησθαι εὐχαριστησα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>
            <a:off x="4586400" y="4973760"/>
            <a:ext cx="46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(οὑτως) ἐθαυμαζον ὡστε προσκυνησαι αὐτ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0"/>
          <p:cNvSpPr/>
          <p:nvPr/>
        </p:nvSpPr>
        <p:spPr>
          <a:xfrm>
            <a:off x="4586400" y="5851440"/>
            <a:ext cx="46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δει σε δουλευειν (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δει σε εἰναι δουλον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8:Practice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18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IRD PERSON IMPERA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214200" y="1285920"/>
            <a:ext cx="4214880" cy="47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μη λεγετω τῳ πονηρ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λθετω ἡ βασιλεια σ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δει την βασιλειαν ἐλθει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ροσκυνωμεν τῳ θε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ροσκυνειτωσαν τῳ θε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α δαιμονια ἐκβληθητω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3790800" y="2043000"/>
            <a:ext cx="46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he should not speak to the evil m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3800520" y="2548080"/>
            <a:ext cx="521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et your kingdom come!/ May your kingdom com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3813120" y="355752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kingdom must c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7"/>
          <p:cNvSpPr/>
          <p:nvPr/>
        </p:nvSpPr>
        <p:spPr>
          <a:xfrm>
            <a:off x="3803760" y="405756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et us worship G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8"/>
          <p:cNvSpPr/>
          <p:nvPr/>
        </p:nvSpPr>
        <p:spPr>
          <a:xfrm>
            <a:off x="3813120" y="457524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y should worship G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9"/>
          <p:cNvSpPr/>
          <p:nvPr/>
        </p:nvSpPr>
        <p:spPr>
          <a:xfrm>
            <a:off x="3803760" y="507204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demons should be cast o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8:Practice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7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18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IRD PERSON IMPERA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214200" y="1285920"/>
            <a:ext cx="4214880" cy="52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ἠρθησα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ολλα εἰληφαμε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ἠκουσα το ῥηθε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σωσεις τον ἐσχηκοτα δαιμονιο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ἱ ἀρχιερεις εἰληφασιν τας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γραφα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ἰδον ἀνεῳγμενον οὐραν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4"/>
          <p:cNvSpPr/>
          <p:nvPr/>
        </p:nvSpPr>
        <p:spPr>
          <a:xfrm>
            <a:off x="4572000" y="204300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y were taken (awa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4572000" y="252720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e have received many thin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4572000" y="303372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heard what was sa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7"/>
          <p:cNvSpPr/>
          <p:nvPr/>
        </p:nvSpPr>
        <p:spPr>
          <a:xfrm>
            <a:off x="4572000" y="3557520"/>
            <a:ext cx="42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ill you save the man who has a dem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8"/>
          <p:cNvSpPr/>
          <p:nvPr/>
        </p:nvSpPr>
        <p:spPr>
          <a:xfrm>
            <a:off x="4572000" y="4575240"/>
            <a:ext cx="42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chief priests have taken the scriptu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9"/>
          <p:cNvSpPr/>
          <p:nvPr/>
        </p:nvSpPr>
        <p:spPr>
          <a:xfrm>
            <a:off x="4572000" y="558000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saw heaven op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0T10:14:35Z</dcterms:created>
  <dc:creator>Sarah</dc:creator>
  <dc:description/>
  <dc:language>en-US</dc:language>
  <cp:lastModifiedBy>Sarah</cp:lastModifiedBy>
  <dcterms:modified xsi:type="dcterms:W3CDTF">2009-03-03T23:11:14Z</dcterms:modified>
  <cp:revision>19</cp:revision>
  <dc:subject/>
  <dc:title>Slide 1</dc:title>
</cp:coreProperties>
</file>